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E20-CCB7-437E-8628-096FFCA1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6BC-370B-4550-A07C-7E37EE51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775-21BD-4AF7-8C91-F210D517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E2C-82AD-4B63-B592-B4BCB057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876-5938-4E95-9F79-FD465AF9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467-1322-4106-9543-19A97C81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B84-BA9A-4BBD-B16E-E5B6B693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F9A-BA9B-4734-8A96-4C3C098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540-DEA9-4759-811B-7540BB45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674-38CF-4D7C-A048-F1A88BF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770-7731-4ABD-B27E-3171382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7B0-167F-45A2-9EBF-8DA141D3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5053-AA8B-4A7B-A24A-DCD502E0C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 , and Kevi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590920"/>
            <a:ext cx="36482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and in Rus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lno in Kauchattea Penisula that is part of King of fire (Mt. Elbr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land for farming but it is too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228600"/>
            <a:ext cx="6181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ad about land in Rus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10391760" cy="7791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 so , if something gets into there drinking water 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navigatable rivers tourists can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400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’s land is good in many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cause it is very good cold, Russians cant use it as much for growing crops most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the navigable rivers, the Russians can import an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cause of the cold weather again, it is hard to shop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44:50Z</dcterms:created>
  <dc:creator> </dc:creator>
  <dc:description/>
  <dc:language>en-US</dc:language>
  <cp:lastModifiedBy> </cp:lastModifiedBy>
  <dcterms:modified xsi:type="dcterms:W3CDTF">2010-12-15T18:15:54Z</dcterms:modified>
  <cp:revision>5</cp:revision>
  <dc:subject/>
  <dc:title>LAND IN RUSSIA</dc:title>
</cp:coreProperties>
</file>